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BE5-7959-403C-B0D9-9A66709D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92FE-38B3-496C-9FDB-EA50ADA1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E595-8ED3-4007-9B61-63D7E373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703E-2DE8-4698-9EEC-4A5E7328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A583-B3A1-4111-812E-FB43B9F7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1C9-2B0D-4F0D-A815-53468F1F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B5A-06BD-4FBD-89C7-2727ADD0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CB3-47C2-48B2-A2CC-BA8CFD3B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D316-CCB4-4690-802F-6D0C410B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D02-D8D6-4207-8CB1-47A11E2A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66D6-7DD5-45D1-BBB6-4F343129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16F-31BA-4CC2-8FC7-069FC363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962A-BC15-414A-BC75-F3413D4B0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4  Note Guide Solids, liquids and gases, oh m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371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tates of matter – described based on whether shapes and volumes are fixed o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1337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Solids = definite shape and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6668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r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ngement of particles at atomic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olid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2438640" cy="1771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9880" y="32004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les very closely pa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Liquid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finite volume, but no definite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iquid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2590920" cy="138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8480" y="1523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ake shape of container it i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20574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rrangement of particles mo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32004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articles packed, but somewhat lo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Gases – no definite shape or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as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2274840" cy="1965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81280" y="1219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akes shape of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16765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rrangement of particles not in regular pattern; very 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2004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articles very lo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36576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Plasma –exists at extremely high temperatures (on stars, s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4419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Bose-Einstein condensate –found at temps near –273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48006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groups of atoms act as a single 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etic The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295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LL moving objects have kinetic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16765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etic energy = energy of motio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0574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kinetic theory states that all particles of matter are in CONSTANT mo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819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 of the 3 main states of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3276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olids = have definite shape and volume becau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les vibrate around fixed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40384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trong attractions of the atoms within keep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44197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Liquids = take shape of container because particles flow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locations.  Volume remains constant because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ces of attraction keep particles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Gas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ces of attraction in gases are small, but STI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1600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articles collide with each other,but can’t get away tot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20:03:35Z</dcterms:created>
  <dc:creator>Farwell Area Schools</dc:creator>
  <dc:description/>
  <dc:language>en-US</dc:language>
  <cp:lastModifiedBy>Farwell Area Schools</cp:lastModifiedBy>
  <dcterms:modified xsi:type="dcterms:W3CDTF">2009-01-21T18:10:03Z</dcterms:modified>
  <cp:revision>5</cp:revision>
  <dc:subject/>
  <dc:title>3-4  Note Guide Solids, liquids and gases, oh my!</dc:title>
</cp:coreProperties>
</file>